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19C-05B9-4880-A532-5A21767F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2CB-D4D2-45BD-A2DB-3212D233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DAC-2F85-4805-8A28-E6849D12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658-F993-4419-B153-D11AA878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504-FB1F-409C-8782-278338AE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3F7-03FF-4D48-B7A2-FB1ABF75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993-11E1-43B7-95CB-996EC16B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19E-58FD-46D0-8910-BFAC4B95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5DD-9147-4877-B5C7-50E1442C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2C8-5FDE-430B-803D-CF61EA77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750-F6AE-4B8D-A90F-3E27F8AA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A2A8-CFCD-4FE5-A14B-4BE15911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90FE-AEE5-4CEF-ADC1-45055ED6D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PHY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ulation studies for the prototype of MEMPHYS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6165720"/>
            <a:ext cx="441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ssandra Tonazzo/A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kos Vassilopoulos/L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50760" y="1916280"/>
            <a:ext cx="7581960" cy="4495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ons 1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280" y="1413000"/>
            <a:ext cx="88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PMTs per muon, # of opticalphotons per PMT, opticalphotons’ arrival tim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299736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8000" y="5300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ity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2781360"/>
            <a:ext cx="12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87840" y="2558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9480" y="6432480"/>
            <a:ext cx="36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k muons generated at the detector’s surface with pz / 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7581960" cy="44960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ons 1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268280"/>
            <a:ext cx="811836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propagation effect of OP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of distance between muon’s exit point and detection PMT’s coordinates versus detectio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3700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69840" y="2637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6370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= 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48402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z/p &lt;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78200" y="5313240"/>
            <a:ext cx="5257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z/p = -1 : later produced OPs are detected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z/p &lt; 0  : relation not cl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6720" y="386064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213000"/>
            <a:ext cx="576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3389400"/>
            <a:ext cx="184320" cy="18396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81360" y="3367080"/>
            <a:ext cx="277920" cy="2779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10520" y="3284640"/>
            <a:ext cx="574560" cy="5047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0360" y="3068640"/>
            <a:ext cx="110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ed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2880" y="299736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mid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9800" y="5516640"/>
            <a:ext cx="70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ag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jec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640" y="2997360"/>
            <a:ext cx="11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y/exit: cen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9080" y="3213000"/>
            <a:ext cx="5745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 simulat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67080" y="2276640"/>
            <a:ext cx="4336920" cy="3057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going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larger/different configurations for MEMPHYN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mmer student working on this at AP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541656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s of different electrons samples &amp; new configu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sion of noise and dig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40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tector prototype, similar to a MEMPHYS module, is going to provide a solid platform to perform tests on electronic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 trigg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shold stud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es, as far as detector characteristics allow, could be performed fo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tex fi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ght propa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ulati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S, underwater cherenkov detector simulation &amp; visualization code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Jean-Eric Campagne, Guy Barrand et al. (based on GEANT4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2x2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 water volu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different PMTs’ modules simulated at bottom s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x4 12in PMT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3808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35% cover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for one side, shown he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x4 10in PMT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3808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20% cover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for one side, avail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refraction &amp;  blacksheet parameters a la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NO detector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5894280"/>
            <a:ext cx="792360" cy="343080"/>
          </a:xfrm>
          <a:prstGeom prst="rightArrow">
            <a:avLst>
              <a:gd name="adj1" fmla="val 50000"/>
              <a:gd name="adj2" fmla="val 577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tector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280" y="162252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10 MeV, pz / p = -1, vtx :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62252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on 1 GeV, pz / p = -1, vtx : top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5805360"/>
            <a:ext cx="63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ts taken only for optical photons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2112840"/>
            <a:ext cx="4156200" cy="318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08520" y="2112840"/>
            <a:ext cx="41562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s genera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k events samples per particle per energ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: E = 1 to 25 M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-like sources deployed at the detector cen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ons: E = 1 GeV, pz/p = -1 (also pz/p &l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ward selected mu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ots of the following event (particle) characteristic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of PMTs per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of opticalphotons per PM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calphotons’ arrival times at P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liminary analyses for vertex reconstruction &amp; light propag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5589720"/>
            <a:ext cx="792000" cy="342720"/>
          </a:xfrm>
          <a:prstGeom prst="rightArrow">
            <a:avLst>
              <a:gd name="adj1" fmla="val 50000"/>
              <a:gd name="adj2" fmla="val 57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352520"/>
            <a:ext cx="4464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PMTs per electr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1200" y="181296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85520" y="3284640"/>
            <a:ext cx="2023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77840" y="26028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1760" y="134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opticalphotons per PMT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81200" y="191628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341160" y="314172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879640" y="26028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4280" y="1341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alphotons’ arrival tim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581960" cy="4495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69880" y="323676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840" y="6478560"/>
            <a:ext cx="422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17080" y="44280"/>
            <a:ext cx="323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 to 25 M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08000" y="765000"/>
            <a:ext cx="3889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value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MTs per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s’ per PM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s’ arrival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38440"/>
            <a:ext cx="3027240" cy="284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3027240" cy="2842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651640" y="765000"/>
            <a:ext cx="34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heet reflective a la S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heet 100% absor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50760" y="5799240"/>
            <a:ext cx="1965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484360" y="4724280"/>
          <a:ext cx="3954600" cy="1308240"/>
        </p:xfrm>
        <a:graphic>
          <a:graphicData uri="http://schemas.openxmlformats.org/drawingml/2006/table">
            <a:tbl>
              <a:tblPr/>
              <a:tblGrid>
                <a:gridCol w="954000"/>
                <a:gridCol w="428760"/>
                <a:gridCol w="428760"/>
                <a:gridCol w="428400"/>
                <a:gridCol w="428760"/>
                <a:gridCol w="428760"/>
                <a:gridCol w="428400"/>
                <a:gridCol w="428760"/>
              </a:tblGrid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E (Me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 / MeV / 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6 (sid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PH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921040" y="1744560"/>
            <a:ext cx="3019320" cy="2836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98560" y="616572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:  MEMPHYNO’s OPs detected per MeV per electron with blacksheet reflective (numbers calculated from the total # of OPs per Energy run not from the aver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9240" y="3068640"/>
            <a:ext cx="345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x10k electrons generated at the detector’s centre with random dir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000" y="5373720"/>
            <a:ext cx="20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to MEMPH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81200" y="2173320"/>
            <a:ext cx="7581600" cy="449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MPHY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s 10 Me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vertex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9400" y="1197000"/>
            <a:ext cx="752976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ry vertex fit based on each  PMT’s timing info: 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PM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=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&gt;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 PM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where TO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(n / c)  x  D, D = distance between each PMT and fitting point’s coordin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ize estimator E(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to find the true vertex of electron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7440" y="3597120"/>
            <a:ext cx="202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sheet 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99360" y="5305320"/>
            <a:ext cx="362052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 % reconstruction efficiency exa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rue vertex for 10k electrons generated 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or’s centre with random dir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720" y="25653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8000" y="25653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360" y="476100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640" y="476100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best f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4:10:10Z</dcterms:created>
  <dc:creator>vassilo</dc:creator>
  <dc:description/>
  <dc:language>en-US</dc:language>
  <cp:lastModifiedBy>vassilo</cp:lastModifiedBy>
  <dcterms:modified xsi:type="dcterms:W3CDTF">2007-06-10T21:12:52Z</dcterms:modified>
  <cp:revision>85</cp:revision>
  <dc:subject/>
  <dc:title>Diapositive 1</dc:title>
</cp:coreProperties>
</file>